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84c22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1FBF-7132-4D82-9F28-377D156C0C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2C6F-E38A-46E9-AFFE-EADD1838B3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A476-7023-4C96-848E-03DDEF767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28F4-2BC2-49E4-A349-23DB0FE3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DAF4-E643-43FE-9923-E3959AC29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A45C-E482-4A94-821E-330FE3589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B26A-D34C-44AF-AD05-252ABB23A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F0A9-CA24-400D-B5FA-E10DA305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4DA9-07AF-4952-A435-783C659A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3A33B-C032-48D4-ADFC-1C0CC958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8190-CA19-442C-8C72-DF5A12B2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8B84-1D0D-4BD7-B217-06284725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ECFA-695D-4835-878D-5C42EBDD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5E07-392D-4B78-AB40-061199EC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52C5-BDEC-4806-9BCF-DB638935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8952-199B-499B-BB74-4736B64A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5A4A-1951-4EA1-8549-0A38D40E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6680-7D0C-4E09-B8C3-2634BA90E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FD21-9B99-45A6-9D09-BA98102B5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25C9D-BF16-46A1-8694-902BB4D49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8F5C7-9896-43D4-8B8C-C2793357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F0D57-C7BE-4F0A-969A-48543560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612CA-12B3-444B-9683-564B6B02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544F9-6409-4A2F-A023-47A8E577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8C74-D28F-4289-A747-83CEF523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7593C-AD6F-43D1-A52B-A96F989D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62EE7-9CDA-434C-A937-19EB375A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389A9-328B-4BF9-A254-C225A737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5FDE6-B19C-4933-83F5-FE760C7F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854C8-85E2-4A8B-B388-57225E51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9F158-CB23-4E6B-8EF5-4F2246440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BFB38-1270-4D90-90BE-26382CB9D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59F80-4779-4C99-ACA7-84F2A507C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41D7C-E68A-43A2-825A-039538BB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9BFE4-1106-4C8B-90E1-3F765008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1F2D-2C29-47F4-AFAF-68165822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09DA2-34B4-4EE8-81D9-86171C1B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8A8B6-6E00-4BC1-8CA0-AF95DBBA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70C31-CC7D-477E-8B31-ECC85D8F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378DC-DDB9-40F1-A703-91297C63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678BC-DA9B-4752-9EFB-CBA5E502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B5D89-CA04-4BCE-A23B-85327326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04482-F8DD-4272-8683-EA23F62E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549D4-103A-492D-A7B1-08517AE5D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0F68A-3D57-4351-81EB-39FB0E8B9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9F7B-8161-4126-8C8E-453CF954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EC04-9B1D-4DFF-B020-7D4BB1F0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0516-2C89-4AA7-BE91-8DF38240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447E-C052-4F3E-8578-9217EFE6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C672-42FF-4EA5-A4D7-3F57C187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84c2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84c2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fbd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9d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194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84c2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84c2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7C98-33AF-4F22-9C83-420C4EF502BA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84c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C0D4-FDEF-4496-97D1-4B740C4FBD0A}" type="slidenum">
              <a:rPr b="0" lang="ru-RU" sz="900" spc="-1" strike="noStrike">
                <a:solidFill>
                  <a:srgbClr val="e84c2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84c2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fbd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9d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194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84c2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84c2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84c2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E9C4-C2D1-4341-8808-EFA85E7F3F12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84c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57B5-4EA4-4675-A5FB-EECDD3F20056}" type="slidenum">
              <a:rPr b="0" lang="ru-RU" sz="900" spc="-1" strike="noStrike">
                <a:solidFill>
                  <a:srgbClr val="e84c2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84c2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84c2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fbd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9d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194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84c2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1947a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1947a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84c2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FCD3-F4EB-495A-AF4C-920F4AF14042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84c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22EF-A812-4D54-97D0-AAC0E7549D62}" type="slidenum">
              <a:rPr b="0" lang="ru-RU" sz="900" spc="-1" strike="noStrike">
                <a:solidFill>
                  <a:srgbClr val="e84c2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84c2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84c2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fbd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9d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194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84c2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1947a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1947a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84c2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8549-045E-4C32-A04F-9450D4FFD20D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84c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8C6A-0312-4293-A05D-5066CC3ECC89}" type="slidenum">
              <a:rPr b="0" lang="ru-RU" sz="900" spc="-1" strike="noStrike">
                <a:solidFill>
                  <a:srgbClr val="e84c2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e84c22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66"/>
                </a:solidFill>
                <a:latin typeface="Trebuchet MS"/>
                <a:ea typeface="Arial"/>
              </a:rPr>
              <a:t>Функциональные страте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 </a:t>
            </a:r>
            <a:r>
              <a:rPr b="1" lang="en-US" sz="2600" spc="-1" strike="noStrike">
                <a:solidFill>
                  <a:srgbClr val="090d33"/>
                </a:solidFill>
                <a:latin typeface="Trebuchet MS"/>
                <a:ea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e84c22"/>
                </a:solidFill>
                <a:latin typeface="Trebuchet MS"/>
              </a:rPr>
              <a:t>План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нятие и роль функциональной 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иды функциональных стратеги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изводственные 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и НИОКР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e84c22"/>
                </a:solidFill>
                <a:uFillTx/>
                <a:latin typeface="Trebuchet MS"/>
              </a:rPr>
              <a:t>Функциональная стратегия </a:t>
            </a:r>
            <a:r>
              <a:rPr b="0" lang="ru-RU" sz="3200" spc="-1" strike="noStrike">
                <a:solidFill>
                  <a:srgbClr val="e84c22"/>
                </a:solidFill>
                <a:latin typeface="Trebuchet MS"/>
              </a:rPr>
              <a:t>определяет направление деятельности той или иной функциональной службы (или отдела) внутри одной сферы бизнеса</a:t>
            </a:r>
            <a:endParaRPr b="0" lang="en-US" sz="32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3499920"/>
            <a:ext cx="8229600" cy="28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оль функциональной стратегии заключается в поддержке общей деловой стратегии и конкурентоспособности фирмы, а также в создании управленческих ориентиров для достижения намеченных функциональных целей компан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571680" y="785880"/>
          <a:ext cx="7858080" cy="5371920"/>
        </p:xfrm>
        <a:graphic>
          <a:graphicData uri="http://schemas.openxmlformats.org/drawingml/2006/table">
            <a:tbl>
              <a:tblPr/>
              <a:tblGrid>
                <a:gridCol w="2060280"/>
                <a:gridCol w="5797800"/>
              </a:tblGrid>
              <a:tr h="563400"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ая стратегическая ориент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916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ке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лечение и сохранение лояльной группы потребителей посредством уникального сочетания товара, сбыта, продвижения и це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564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ное использование производственных возможностей, снижение относительных издержек производства и макси­мизация контроля ка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564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ирование в пределах установленного бюджета, упор на прибыльную продукцию, контроль кредита и ми­нимизация стоимости займ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416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дартизация отчетности, тщательная детализация издержек, стандартизация сдел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140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076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жб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и соблюдение конкретных спецификаций, ограничение числа моделей и вариантов, концентрация на улучшении ка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044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абж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бретение материалов большими однородными партиями по низким ценам и поддержание небольших зап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208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ОК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иск технологических прорывов, улучшение качества продукции, выявление нововвед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20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 u="sng">
                <a:solidFill>
                  <a:srgbClr val="000000"/>
                </a:solidFill>
                <a:uFillTx/>
                <a:latin typeface="Trebuchet MS"/>
              </a:rPr>
              <a:t>Производственная стратегия</a:t>
            </a:r>
            <a:r>
              <a:rPr b="0" lang="ru-RU" sz="2900" spc="-1" strike="noStrike">
                <a:solidFill>
                  <a:srgbClr val="000000"/>
                </a:solidFill>
                <a:latin typeface="Trebuchet MS"/>
              </a:rPr>
              <a:t> — это долгосрочная программа конкретных действий по созданию и реализации продукции предприятия</a:t>
            </a:r>
            <a:endParaRPr b="0" lang="en-US" sz="29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3071520"/>
            <a:ext cx="8229600" cy="32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иды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азовая стратегия производств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 размещения производств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 организации производств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0040" y="857160"/>
            <a:ext cx="8229600" cy="17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 u="sng">
                <a:solidFill>
                  <a:srgbClr val="000000"/>
                </a:solidFill>
                <a:uFillTx/>
                <a:latin typeface="Trebuchet MS"/>
              </a:rPr>
              <a:t>Стратегия НИОКР</a:t>
            </a:r>
            <a:r>
              <a:rPr b="0" lang="ru-RU" sz="2900" spc="-1" strike="noStrike">
                <a:solidFill>
                  <a:srgbClr val="000000"/>
                </a:solidFill>
                <a:latin typeface="Trebuchet MS"/>
              </a:rPr>
              <a:t> —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rebuchet MS"/>
              </a:rPr>
              <a:t>это долгосрочная программа конкретных действий, связанных с созданием нового продукта и технологии производства</a:t>
            </a:r>
            <a:endParaRPr b="0" lang="en-US" sz="29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иды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аступательна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защитна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глощающа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збойничь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e84c22"/>
                </a:solidFill>
                <a:latin typeface="Trebuchet MS"/>
              </a:rPr>
              <a:t>Выбор стратегии НИОКР</a:t>
            </a:r>
            <a:endParaRPr b="0" lang="en-US" sz="3200" spc="-1" strike="noStrike">
              <a:solidFill>
                <a:srgbClr val="e84c22"/>
              </a:solidFill>
              <a:latin typeface="Trebuchet MS"/>
            </a:endParaRPr>
          </a:p>
        </p:txBody>
      </p:sp>
      <p:pic>
        <p:nvPicPr>
          <p:cNvPr id="238" name="Group 219" descr=""/>
          <p:cNvPicPr/>
          <p:nvPr/>
        </p:nvPicPr>
        <p:blipFill>
          <a:blip r:embed="rId1"/>
          <a:stretch/>
        </p:blipFill>
        <p:spPr>
          <a:xfrm>
            <a:off x="487440" y="1420920"/>
            <a:ext cx="8192880" cy="4992480"/>
          </a:xfrm>
          <a:prstGeom prst="rect">
            <a:avLst/>
          </a:prstGeom>
          <a:ln w="0">
            <a:noFill/>
          </a:ln>
        </p:spPr>
      </p:pic>
      <p:sp>
        <p:nvSpPr>
          <p:cNvPr id="239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3T09:26:04Z</dcterms:created>
  <dc:creator>И.В.</dc:creator>
  <dc:description/>
  <dc:language>en-US</dc:language>
  <cp:lastModifiedBy>Толя</cp:lastModifiedBy>
  <dcterms:modified xsi:type="dcterms:W3CDTF">2014-12-01T07:01:49Z</dcterms:modified>
  <cp:revision>5</cp:revision>
  <dc:subject/>
  <dc:title>Функциональные стратегии</dc:title>
</cp:coreProperties>
</file>